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1.png" ContentType="image/png"/>
  <Override PartName="/ppt/media/image13.png" ContentType="image/png"/>
  <Override PartName="/ppt/media/image10.png" ContentType="image/png"/>
  <Override PartName="/ppt/media/image5.wmf" ContentType="image/x-wmf"/>
  <Override PartName="/ppt/media/image6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527F-F98C-4C06-B4E0-060ACA1E7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0D7E-6DC3-4FEC-9FB0-8420062911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CAF1-18EC-498C-AD55-25C418C8CA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9E5A-0EE7-4E99-88F8-15CEB3312C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246F-6EDC-45C8-8AAA-4555ED3A549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0A94-3FB2-425D-8FEE-F7CC5C19FC2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CEB0-7CC2-4F76-8021-C048263CA1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F7E3-9C76-4A2E-A512-19FCF24ADC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EF38-3807-47FF-910E-4C8AF43471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F8D9-47C1-4E37-BABC-45FC432A18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72F1-0647-46F7-A7C7-E3FCE27DA67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C1A6-1CC6-44B8-A071-3432E6F5FF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0F28-3E9E-4A4F-8EA8-BA335CACE6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80A9-7A88-434C-A6D7-56E900771A4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BB2A-0350-495F-81A5-1CED1E78A45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4F02-FE6D-4AD3-A8A9-579802EC6E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F078-EDB7-40D2-88E2-1F2FD72487F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FDEA-3B2F-4230-9CEE-974D61AE20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FE6F-2A6E-4A77-932D-202D2B683F0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6CE7-8031-47D2-9D83-4BDE35B686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C4ED-B01D-4CBA-8F45-4CBC9A21D54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5D1C-3688-4A60-BAFF-550911EFCD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6FF8-3F1E-401E-8133-280630E5A1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C219-CD7F-4271-8E7E-CC6E5F07C6E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942A-93FF-4E6C-835F-ADCB2E0BF0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E0F9-C943-4964-8FC4-30D400275E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03400" y="86832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722840"/>
            <a:ext cx="502920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9853-11EB-4280-8C33-D293706EA49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47F0-D493-4100-9832-925541272B8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F252-591E-4670-882F-DA06D6A8C18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1C82-173D-44C3-B85D-C2E4146C3CE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42DE-724B-4C69-B99B-16585BAD1A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8E7E-D407-4201-8678-E4C8FAED17A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137E-E637-49E2-B502-B245E80E759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3930-09E9-41DB-8406-FD5BF6215EB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1FB4-BE7C-400C-894D-F969F2FA0E9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EC7B-651B-401C-A287-E75E0BFC78A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6A72-0753-4B2B-A51F-31BCC28B14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BF3A-11D9-4C21-8E39-9F18C33749F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EA9-656C-4284-AC00-FA0BB6F5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E4C-49C9-4897-BF39-FF897E1E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419-9AA8-46FE-B9AB-FEB6EAFA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F91-FB85-40D2-9977-2B700994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0654-6AC3-421E-9630-4C852BBF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3CAE-6FD3-4594-8763-095F93B0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4790-F06B-41F2-910B-26F033EF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E84F-95EC-46BF-B574-5C6F92F4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C549-7EC1-447C-B1D7-690B2CDC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9FBA-9BF8-4C75-BCC2-5398EFD5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200D-210D-4C8F-B00C-D1A390E6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9DB-3BCA-43DE-88F2-1BAE2720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7BE3-48C6-45AD-B1F8-59628EFF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952B-DD05-40EE-90BF-B7C9B0E4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02C0-756A-4600-B59B-9674E185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8423-C2DC-4DFF-A847-DB8917BE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DD2F-C764-4827-8571-C6A94A57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3D4C6-10C6-4810-966B-416A4434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D56AD-DCCB-4356-A068-6A037170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A6A4-1D2C-4593-8990-70B7F6E7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A2E4C-C759-4986-8640-0E91C5E5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2EF97-E9B0-485E-965E-CD51BAEC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00D-6C13-458D-A519-80AE8BCC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3C9D-67A0-4543-8C0E-4D153947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17C3-22C1-4B07-9E20-B58DAFBD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B9DE-CAD5-4202-B91E-94D00169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6987D-6298-49DC-8C74-7F69A7B8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E1BE-5ACB-4A86-8E2D-975E263B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8AA22-1A6B-423C-BFD4-ACF7E996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31734-B49D-423D-AB2C-44EB0398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5C0-4CA6-4B8F-8495-2EF279B0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C53-398B-4B34-AF70-6A9D5888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07D-456A-4301-A638-4B18B314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346-F416-463E-A374-BE87ADB9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B36-3158-4656-AA62-65F3C678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5D9-2D03-47F9-9936-ACE64D99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54C4-3AE2-4395-9BD2-89EACCD81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63E8-2F44-4ED4-9756-4BA1E4BF6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020A-2836-487F-AFFF-9F8A490C3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hyperlink" Target="http://xbeams.chem.yale.edu/~batista/113/movies/06m04an1.mov" TargetMode="External"/><Relationship Id="rId5" Type="http://schemas.openxmlformats.org/officeDocument/2006/relationships/image" Target="../media/image10.png"/><Relationship Id="rId6" Type="http://schemas.openxmlformats.org/officeDocument/2006/relationships/oleObject" Target="../embeddings/oleObject2.bin"/><Relationship Id="rId7" Type="http://schemas.openxmlformats.org/officeDocument/2006/relationships/hyperlink" Target="http://xbeams.chem.yale.edu/~batista/113/movies/06m04an2.mov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3.bin"/><Relationship Id="rId10" Type="http://schemas.openxmlformats.org/officeDocument/2006/relationships/hyperlink" Target="http://xbeams.chem.yale.edu/~batista/113/movies/06m04an3.mov" TargetMode="External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ОСНОВНЕ ФИЗИЧКЕ ВЕЛИЧИНЕ И РЕДОВИ ВЕЛИЧИНА</a:t>
            </a:r>
            <a:br>
              <a:rPr sz="4800"/>
            </a:b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Брзина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убрзање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сила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енергиј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7663320" y="645804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1. н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ubtitle 2"/>
          <p:cNvSpPr/>
          <p:nvPr/>
        </p:nvSpPr>
        <p:spPr>
          <a:xfrm>
            <a:off x="1149480" y="4148280"/>
            <a:ext cx="69847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  <a:ea typeface="Arial"/>
              </a:rPr>
              <a:t>Доц. др Снежана Јовановић Сте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  <a:ea typeface="Arial"/>
              </a:rPr>
              <a:t>2022/23.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ај зависи само од почетне и финалне позиције – померај је вектор јер има правац, смер и велич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4286160" y="4714920"/>
                <a:ext cx="207180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TextBox 8"/>
          <p:cNvSpPr/>
          <p:nvPr/>
        </p:nvSpPr>
        <p:spPr>
          <a:xfrm>
            <a:off x="214200" y="2637000"/>
            <a:ext cx="89298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БРЗИНА је количник пређеног пута и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 карактерише је интензитет, правац и см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Брзина је векторска величина, јер је карактерише правац, смер и величина-интензит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3"/>
          <p:cNvSpPr/>
          <p:nvPr/>
        </p:nvSpPr>
        <p:spPr>
          <a:xfrm>
            <a:off x="2859120" y="2141640"/>
            <a:ext cx="274680" cy="274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15"/>
          <p:cNvCxnSpPr/>
          <p:nvPr/>
        </p:nvCxnSpPr>
        <p:spPr>
          <a:xfrm flipV="1">
            <a:off x="2999160" y="1142280"/>
            <a:ext cx="252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7" name="Straight Arrow Connector 16"/>
          <p:cNvCxnSpPr/>
          <p:nvPr/>
        </p:nvCxnSpPr>
        <p:spPr>
          <a:xfrm flipV="1">
            <a:off x="3002040" y="1426320"/>
            <a:ext cx="64332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8" name="Straight Arrow Connector 18"/>
          <p:cNvCxnSpPr/>
          <p:nvPr/>
        </p:nvCxnSpPr>
        <p:spPr>
          <a:xfrm flipH="1" flipV="1">
            <a:off x="2072880" y="997920"/>
            <a:ext cx="92952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9" name="Straight Arrow Connector 20"/>
          <p:cNvCxnSpPr/>
          <p:nvPr/>
        </p:nvCxnSpPr>
        <p:spPr>
          <a:xfrm>
            <a:off x="2858760" y="2252160"/>
            <a:ext cx="857880" cy="17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0" name="Oval 9"/>
          <p:cNvSpPr/>
          <p:nvPr/>
        </p:nvSpPr>
        <p:spPr>
          <a:xfrm>
            <a:off x="2001960" y="6141960"/>
            <a:ext cx="274680" cy="274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Straight Arrow Connector 10"/>
          <p:cNvCxnSpPr/>
          <p:nvPr/>
        </p:nvCxnSpPr>
        <p:spPr>
          <a:xfrm flipV="1">
            <a:off x="2142000" y="5142960"/>
            <a:ext cx="2520" cy="1143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2" name="Straight Arrow Connector 11"/>
          <p:cNvCxnSpPr/>
          <p:nvPr/>
        </p:nvCxnSpPr>
        <p:spPr>
          <a:xfrm flipV="1">
            <a:off x="2143800" y="5427360"/>
            <a:ext cx="64332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3" name="Straight Arrow Connector 12"/>
          <p:cNvCxnSpPr/>
          <p:nvPr/>
        </p:nvCxnSpPr>
        <p:spPr>
          <a:xfrm flipH="1" flipV="1">
            <a:off x="1215720" y="4998600"/>
            <a:ext cx="929520" cy="1215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Straight Arrow Connector 14"/>
          <p:cNvCxnSpPr/>
          <p:nvPr/>
        </p:nvCxnSpPr>
        <p:spPr>
          <a:xfrm>
            <a:off x="2001600" y="6252840"/>
            <a:ext cx="857880" cy="17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Rectangle 17"/>
          <p:cNvSpPr/>
          <p:nvPr/>
        </p:nvSpPr>
        <p:spPr>
          <a:xfrm>
            <a:off x="7079760" y="5286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БР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8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Брзина током кретања може бити непромењена или се током кретања може мењати, тело за исто време може савлађивати различита растоја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"/>
          <p:cNvGrpSpPr/>
          <p:nvPr/>
        </p:nvGrpSpPr>
        <p:grpSpPr>
          <a:xfrm>
            <a:off x="0" y="1500120"/>
            <a:ext cx="8877240" cy="5487480"/>
            <a:chOff x="0" y="1500120"/>
            <a:chExt cx="8877240" cy="5487480"/>
          </a:xfrm>
        </p:grpSpPr>
        <p:cxnSp>
          <p:nvCxnSpPr>
            <p:cNvPr id="228" name="Straight Arrow Connector 6"/>
            <p:cNvCxnSpPr/>
            <p:nvPr/>
          </p:nvCxnSpPr>
          <p:spPr>
            <a:xfrm flipV="1">
              <a:off x="1712880" y="1571040"/>
              <a:ext cx="2160" cy="250272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29" name="Straight Arrow Connector 8"/>
            <p:cNvCxnSpPr/>
            <p:nvPr/>
          </p:nvCxnSpPr>
          <p:spPr>
            <a:xfrm>
              <a:off x="1714320" y="4000320"/>
              <a:ext cx="6501600" cy="216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230" name="Freeform 10"/>
            <p:cNvSpPr/>
            <p:nvPr/>
          </p:nvSpPr>
          <p:spPr>
            <a:xfrm>
              <a:off x="2865240" y="2350800"/>
              <a:ext cx="5433840" cy="1647720"/>
            </a:xfrm>
            <a:custGeom>
              <a:avLst/>
              <a:gdLst/>
              <a:ahLst/>
              <a:rect l="l" t="t" r="r" b="b"/>
              <a:pathLst>
                <a:path w="5433848" h="1647496">
                  <a:moveTo>
                    <a:pt x="26276" y="1644868"/>
                  </a:moveTo>
                  <a:cubicBezTo>
                    <a:pt x="0" y="1647496"/>
                    <a:pt x="89338" y="1629103"/>
                    <a:pt x="89338" y="1629103"/>
                  </a:cubicBezTo>
                  <a:cubicBezTo>
                    <a:pt x="204952" y="1608082"/>
                    <a:pt x="512380" y="1579179"/>
                    <a:pt x="719959" y="1518744"/>
                  </a:cubicBezTo>
                  <a:cubicBezTo>
                    <a:pt x="927538" y="1458310"/>
                    <a:pt x="1072055" y="1418896"/>
                    <a:pt x="1334814" y="1266496"/>
                  </a:cubicBezTo>
                  <a:cubicBezTo>
                    <a:pt x="1597573" y="1114096"/>
                    <a:pt x="2007477" y="777765"/>
                    <a:pt x="2296511" y="604344"/>
                  </a:cubicBezTo>
                  <a:cubicBezTo>
                    <a:pt x="2585545" y="430923"/>
                    <a:pt x="2785242" y="320565"/>
                    <a:pt x="3069021" y="225972"/>
                  </a:cubicBezTo>
                  <a:cubicBezTo>
                    <a:pt x="3352800" y="131379"/>
                    <a:pt x="3689131" y="73572"/>
                    <a:pt x="3999186" y="36786"/>
                  </a:cubicBezTo>
                  <a:cubicBezTo>
                    <a:pt x="4309241" y="0"/>
                    <a:pt x="4690242" y="10510"/>
                    <a:pt x="4929352" y="5255"/>
                  </a:cubicBezTo>
                  <a:cubicBezTo>
                    <a:pt x="5168462" y="0"/>
                    <a:pt x="5301155" y="2627"/>
                    <a:pt x="5433848" y="52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traight Connector 12"/>
            <p:cNvSpPr/>
            <p:nvPr/>
          </p:nvSpPr>
          <p:spPr>
            <a:xfrm flipV="1">
              <a:off x="2927160" y="1642320"/>
              <a:ext cx="1440" cy="23590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traight Connector 13"/>
            <p:cNvSpPr/>
            <p:nvPr/>
          </p:nvSpPr>
          <p:spPr>
            <a:xfrm flipV="1">
              <a:off x="4214880" y="1642680"/>
              <a:ext cx="1440" cy="235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traight Connector 14"/>
            <p:cNvSpPr/>
            <p:nvPr/>
          </p:nvSpPr>
          <p:spPr>
            <a:xfrm flipV="1">
              <a:off x="5286240" y="1642680"/>
              <a:ext cx="1440" cy="235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traight Connector 15"/>
            <p:cNvSpPr/>
            <p:nvPr/>
          </p:nvSpPr>
          <p:spPr>
            <a:xfrm flipV="1">
              <a:off x="6357960" y="1642680"/>
              <a:ext cx="1440" cy="235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traight Connector 16"/>
            <p:cNvSpPr/>
            <p:nvPr/>
          </p:nvSpPr>
          <p:spPr>
            <a:xfrm flipV="1">
              <a:off x="7929720" y="1642680"/>
              <a:ext cx="1440" cy="235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7"/>
            <p:cNvSpPr/>
            <p:nvPr/>
          </p:nvSpPr>
          <p:spPr>
            <a:xfrm>
              <a:off x="1003680" y="16426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,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>
              <a:off x="8146440" y="4143240"/>
              <a:ext cx="48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,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9"/>
            <p:cNvSpPr/>
            <p:nvPr/>
          </p:nvSpPr>
          <p:spPr>
            <a:xfrm>
              <a:off x="1857240" y="1500120"/>
              <a:ext cx="92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Тело у ми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0"/>
            <p:cNvSpPr/>
            <p:nvPr/>
          </p:nvSpPr>
          <p:spPr>
            <a:xfrm>
              <a:off x="4214880" y="1500120"/>
              <a:ext cx="10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рзина рас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2721960" y="4071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1650600" y="4071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33"/>
            <p:cNvSpPr/>
            <p:nvPr/>
          </p:nvSpPr>
          <p:spPr>
            <a:xfrm>
              <a:off x="5079600" y="4071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4"/>
            <p:cNvSpPr/>
            <p:nvPr/>
          </p:nvSpPr>
          <p:spPr>
            <a:xfrm>
              <a:off x="4079520" y="4071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5"/>
            <p:cNvSpPr/>
            <p:nvPr/>
          </p:nvSpPr>
          <p:spPr>
            <a:xfrm>
              <a:off x="6294240" y="4071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Straight Connector 37"/>
            <p:cNvSpPr/>
            <p:nvPr/>
          </p:nvSpPr>
          <p:spPr>
            <a:xfrm>
              <a:off x="6357960" y="2500200"/>
              <a:ext cx="15714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Straight Connector 41"/>
            <p:cNvSpPr/>
            <p:nvPr/>
          </p:nvSpPr>
          <p:spPr>
            <a:xfrm flipH="1" flipV="1">
              <a:off x="6357600" y="2357280"/>
              <a:ext cx="15714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traight Connector 45"/>
            <p:cNvSpPr/>
            <p:nvPr/>
          </p:nvSpPr>
          <p:spPr>
            <a:xfrm flipH="1" flipV="1">
              <a:off x="5286240" y="2428560"/>
              <a:ext cx="10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Straight Connector 47"/>
            <p:cNvSpPr/>
            <p:nvPr/>
          </p:nvSpPr>
          <p:spPr>
            <a:xfrm>
              <a:off x="5286240" y="2857320"/>
              <a:ext cx="10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Straight Connector 49"/>
            <p:cNvSpPr/>
            <p:nvPr/>
          </p:nvSpPr>
          <p:spPr>
            <a:xfrm flipH="1" flipV="1">
              <a:off x="4214880" y="2857320"/>
              <a:ext cx="10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Straight Connector 52"/>
            <p:cNvSpPr/>
            <p:nvPr/>
          </p:nvSpPr>
          <p:spPr>
            <a:xfrm flipH="1" flipV="1">
              <a:off x="4214880" y="3643200"/>
              <a:ext cx="10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eft Brace 53"/>
            <p:cNvSpPr/>
            <p:nvPr/>
          </p:nvSpPr>
          <p:spPr>
            <a:xfrm>
              <a:off x="3929040" y="2857320"/>
              <a:ext cx="331560" cy="785520"/>
            </a:xfrm>
            <a:custGeom>
              <a:avLst/>
              <a:gdLst>
                <a:gd name="textAreaLeft" fmla="*/ 212040 w 331560"/>
                <a:gd name="textAreaRight" fmla="*/ 331920 w 331560"/>
                <a:gd name="textAreaTop" fmla="*/ 8640 h 785520"/>
                <a:gd name="textAreaBottom" fmla="*/ 776880 h 78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80"/>
                    <a:pt x="10800" y="760"/>
                  </a:cubicBezTo>
                  <a:lnTo>
                    <a:pt x="10800" y="10040"/>
                  </a:lnTo>
                  <a:cubicBezTo>
                    <a:pt x="10800" y="10420"/>
                    <a:pt x="5400" y="10800"/>
                    <a:pt x="0" y="10800"/>
                  </a:cubicBezTo>
                  <a:cubicBezTo>
                    <a:pt x="5400" y="10800"/>
                    <a:pt x="10800" y="11180"/>
                    <a:pt x="10800" y="11560"/>
                  </a:cubicBezTo>
                  <a:lnTo>
                    <a:pt x="10800" y="20840"/>
                  </a:lnTo>
                  <a:cubicBezTo>
                    <a:pt x="10800" y="2122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eft Brace 54"/>
            <p:cNvSpPr/>
            <p:nvPr/>
          </p:nvSpPr>
          <p:spPr>
            <a:xfrm rot="10800000">
              <a:off x="7857720" y="2357280"/>
              <a:ext cx="331560" cy="142560"/>
            </a:xfrm>
            <a:custGeom>
              <a:avLst/>
              <a:gdLst>
                <a:gd name="textAreaLeft" fmla="*/ 212040 w 331560"/>
                <a:gd name="textAreaRight" fmla="*/ 331920 w 331560"/>
                <a:gd name="textAreaTop" fmla="*/ 3600 h 142560"/>
                <a:gd name="textAreaBottom" fmla="*/ 13896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eft Brace 55"/>
            <p:cNvSpPr/>
            <p:nvPr/>
          </p:nvSpPr>
          <p:spPr>
            <a:xfrm>
              <a:off x="2571480" y="3643200"/>
              <a:ext cx="331560" cy="347400"/>
            </a:xfrm>
            <a:custGeom>
              <a:avLst/>
              <a:gdLst>
                <a:gd name="textAreaLeft" fmla="*/ 212040 w 331560"/>
                <a:gd name="textAreaRight" fmla="*/ 331920 w 331560"/>
                <a:gd name="textAreaTop" fmla="*/ 8640 h 347400"/>
                <a:gd name="textAreaBottom" fmla="*/ 338760 h 34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59"/>
                    <a:pt x="10800" y="1718"/>
                  </a:cubicBezTo>
                  <a:lnTo>
                    <a:pt x="10800" y="9082"/>
                  </a:lnTo>
                  <a:cubicBezTo>
                    <a:pt x="10800" y="9941"/>
                    <a:pt x="5400" y="10800"/>
                    <a:pt x="0" y="10800"/>
                  </a:cubicBezTo>
                  <a:cubicBezTo>
                    <a:pt x="5400" y="10800"/>
                    <a:pt x="10800" y="11659"/>
                    <a:pt x="10800" y="12518"/>
                  </a:cubicBezTo>
                  <a:lnTo>
                    <a:pt x="10800" y="19882"/>
                  </a:lnTo>
                  <a:cubicBezTo>
                    <a:pt x="10800" y="2074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traight Connector 56"/>
            <p:cNvSpPr/>
            <p:nvPr/>
          </p:nvSpPr>
          <p:spPr>
            <a:xfrm flipH="1" flipV="1">
              <a:off x="2928600" y="3643200"/>
              <a:ext cx="121428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59"/>
            <p:cNvSpPr/>
            <p:nvPr/>
          </p:nvSpPr>
          <p:spPr>
            <a:xfrm>
              <a:off x="3071880" y="1500120"/>
              <a:ext cx="10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рзина рас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60"/>
            <p:cNvSpPr/>
            <p:nvPr/>
          </p:nvSpPr>
          <p:spPr>
            <a:xfrm>
              <a:off x="5286240" y="1500120"/>
              <a:ext cx="10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рзина опа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61"/>
            <p:cNvSpPr/>
            <p:nvPr/>
          </p:nvSpPr>
          <p:spPr>
            <a:xfrm>
              <a:off x="6643800" y="1500120"/>
              <a:ext cx="10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рзина опа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Object 3"/>
                <p:cNvSpPr txBox="1"/>
                <p:nvPr/>
              </p:nvSpPr>
              <p:spPr>
                <a:xfrm>
                  <a:off x="3143160" y="4357800"/>
                  <a:ext cx="93636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Δ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Δ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4286160" y="4429080"/>
                  <a:ext cx="92844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Δ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Δ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Object 5"/>
                <p:cNvSpPr txBox="1"/>
                <p:nvPr/>
              </p:nvSpPr>
              <p:spPr>
                <a:xfrm>
                  <a:off x="5429160" y="4357800"/>
                  <a:ext cx="1017360" cy="78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Δ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Δt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Object 6"/>
                <p:cNvSpPr txBox="1"/>
                <p:nvPr/>
              </p:nvSpPr>
              <p:spPr>
                <a:xfrm>
                  <a:off x="6715080" y="4357800"/>
                  <a:ext cx="1039680" cy="78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Δ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Δ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7"/>
                <p:cNvSpPr txBox="1"/>
                <p:nvPr/>
              </p:nvSpPr>
              <p:spPr>
                <a:xfrm>
                  <a:off x="2286000" y="3643200"/>
                  <a:ext cx="32040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3" name="Object 8"/>
                <p:cNvSpPr txBox="1"/>
                <p:nvPr/>
              </p:nvSpPr>
              <p:spPr>
                <a:xfrm>
                  <a:off x="3571920" y="3071520"/>
                  <a:ext cx="32040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Object 9"/>
                <p:cNvSpPr txBox="1"/>
                <p:nvPr/>
              </p:nvSpPr>
              <p:spPr>
                <a:xfrm>
                  <a:off x="4572000" y="2500200"/>
                  <a:ext cx="32040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Right Brace 70"/>
            <p:cNvSpPr/>
            <p:nvPr/>
          </p:nvSpPr>
          <p:spPr>
            <a:xfrm rot="5400000">
              <a:off x="3428640" y="3500280"/>
              <a:ext cx="285480" cy="128556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0 h 1285560"/>
                <a:gd name="textAreaBottom" fmla="*/ 128592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16200" y="10800"/>
                    <a:pt x="21600" y="10800"/>
                  </a:cubicBezTo>
                  <a:cubicBezTo>
                    <a:pt x="162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ight Brace 71"/>
            <p:cNvSpPr/>
            <p:nvPr/>
          </p:nvSpPr>
          <p:spPr>
            <a:xfrm rot="5400000">
              <a:off x="4607640" y="3607200"/>
              <a:ext cx="285480" cy="107136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16200" y="10800"/>
                    <a:pt x="21600" y="10800"/>
                  </a:cubicBezTo>
                  <a:cubicBezTo>
                    <a:pt x="162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ight Brace 72"/>
            <p:cNvSpPr/>
            <p:nvPr/>
          </p:nvSpPr>
          <p:spPr>
            <a:xfrm rot="5400000">
              <a:off x="5679000" y="3607200"/>
              <a:ext cx="285480" cy="107136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16200" y="10800"/>
                    <a:pt x="21600" y="10800"/>
                  </a:cubicBezTo>
                  <a:cubicBezTo>
                    <a:pt x="162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ight Brace 73"/>
            <p:cNvSpPr/>
            <p:nvPr/>
          </p:nvSpPr>
          <p:spPr>
            <a:xfrm rot="5400000">
              <a:off x="7000560" y="3357360"/>
              <a:ext cx="285480" cy="157140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16200" y="10800"/>
                    <a:pt x="21600" y="10800"/>
                  </a:cubicBezTo>
                  <a:cubicBezTo>
                    <a:pt x="162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eft Brace 74"/>
            <p:cNvSpPr/>
            <p:nvPr/>
          </p:nvSpPr>
          <p:spPr>
            <a:xfrm>
              <a:off x="4929120" y="2428560"/>
              <a:ext cx="331560" cy="419040"/>
            </a:xfrm>
            <a:custGeom>
              <a:avLst/>
              <a:gdLst>
                <a:gd name="textAreaLeft" fmla="*/ 212040 w 331560"/>
                <a:gd name="textAreaRight" fmla="*/ 331920 w 331560"/>
                <a:gd name="textAreaTop" fmla="*/ 8640 h 419040"/>
                <a:gd name="textAreaBottom" fmla="*/ 41040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13"/>
                    <a:pt x="10800" y="1425"/>
                  </a:cubicBezTo>
                  <a:lnTo>
                    <a:pt x="10800" y="9375"/>
                  </a:lnTo>
                  <a:cubicBezTo>
                    <a:pt x="10800" y="10088"/>
                    <a:pt x="5400" y="10800"/>
                    <a:pt x="0" y="10800"/>
                  </a:cubicBezTo>
                  <a:cubicBezTo>
                    <a:pt x="5400" y="10800"/>
                    <a:pt x="10800" y="11513"/>
                    <a:pt x="10800" y="12225"/>
                  </a:cubicBezTo>
                  <a:lnTo>
                    <a:pt x="10800" y="20175"/>
                  </a:lnTo>
                  <a:cubicBezTo>
                    <a:pt x="10800" y="2088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11"/>
            <p:cNvSpPr/>
            <p:nvPr/>
          </p:nvSpPr>
          <p:spPr>
            <a:xfrm>
              <a:off x="0" y="4500360"/>
              <a:ext cx="27144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сечна брз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76"/>
            <p:cNvSpPr/>
            <p:nvPr/>
          </p:nvSpPr>
          <p:spPr>
            <a:xfrm>
              <a:off x="2859840" y="3643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77"/>
            <p:cNvSpPr/>
            <p:nvPr/>
          </p:nvSpPr>
          <p:spPr>
            <a:xfrm>
              <a:off x="4145760" y="3286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79"/>
            <p:cNvSpPr/>
            <p:nvPr/>
          </p:nvSpPr>
          <p:spPr>
            <a:xfrm>
              <a:off x="6289200" y="2000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80"/>
            <p:cNvSpPr/>
            <p:nvPr/>
          </p:nvSpPr>
          <p:spPr>
            <a:xfrm>
              <a:off x="5217480" y="2500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11"/>
                <p:cNvSpPr txBox="1"/>
                <p:nvPr/>
              </p:nvSpPr>
              <p:spPr>
                <a:xfrm>
                  <a:off x="0" y="4929120"/>
                  <a:ext cx="1498320" cy="14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f>
                        <m:num>
                          <m:r>
                            <m:t xml:space="preserve">Δ</m:t>
                          </m:r>
                          <m:limUpp>
                            <m:e>
                              <m:r>
                                <m:t xml:space="preserve">x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" name="Object 12"/>
                <p:cNvSpPr txBox="1"/>
                <p:nvPr/>
              </p:nvSpPr>
              <p:spPr>
                <a:xfrm>
                  <a:off x="5072040" y="5357880"/>
                  <a:ext cx="3805200" cy="11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sub>
                          <m:r>
                            <m:t xml:space="preserve">Δt</m:t>
                          </m:r>
                          <m:r>
                            <m:t xml:space="preserve">→</m:t>
                          </m:r>
                          <m:r>
                            <m:t xml:space="preserve">0</m:t>
                          </m:r>
                        </m:sub>
                      </m:sSub>
                      <m:f>
                        <m:num>
                          <m:r>
                            <m:t xml:space="preserve">Δ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TextBox 9"/>
            <p:cNvSpPr/>
            <p:nvPr/>
          </p:nvSpPr>
          <p:spPr>
            <a:xfrm>
              <a:off x="4286160" y="5143680"/>
              <a:ext cx="2571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Тренутна брзи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8" name="Straight Arrow Connector 86"/>
            <p:cNvCxnSpPr/>
            <p:nvPr/>
          </p:nvCxnSpPr>
          <p:spPr>
            <a:xfrm flipV="1">
              <a:off x="2500200" y="4428360"/>
              <a:ext cx="2160" cy="185796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279" name="Straight Arrow Connector 88"/>
            <p:cNvCxnSpPr/>
            <p:nvPr/>
          </p:nvCxnSpPr>
          <p:spPr>
            <a:xfrm>
              <a:off x="2499840" y="6286680"/>
              <a:ext cx="2429640" cy="216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triangle" w="med"/>
            </a:ln>
          </p:spPr>
        </p:cxnSp>
        <p:sp>
          <p:nvSpPr>
            <p:cNvPr id="280" name="Arc 91"/>
            <p:cNvSpPr/>
            <p:nvPr/>
          </p:nvSpPr>
          <p:spPr>
            <a:xfrm rot="1415400">
              <a:off x="1988640" y="5300640"/>
              <a:ext cx="1785960" cy="1387440"/>
            </a:xfrm>
            <a:custGeom>
              <a:avLst/>
              <a:gdLst/>
              <a:ahLst/>
              <a:rect l="l" t="t" r="r" b="b"/>
              <a:pathLst>
                <a:path stroke="0" w="1785937" h="1387475">
                  <a:moveTo>
                    <a:pt x="549881" y="53247"/>
                  </a:moveTo>
                  <a:cubicBezTo>
                    <a:pt x="750274" y="-11541"/>
                    <a:pt x="974180" y="-17407"/>
                    <a:pt x="1179736" y="36746"/>
                  </a:cubicBezTo>
                  <a:cubicBezTo>
                    <a:pt x="1443452" y="106220"/>
                    <a:pt x="1650354" y="267294"/>
                    <a:pt x="1739232" y="472316"/>
                  </a:cubicBezTo>
                  <a:lnTo>
                    <a:pt x="892969" y="693738"/>
                  </a:lnTo>
                  <a:lnTo>
                    <a:pt x="549881" y="53247"/>
                  </a:lnTo>
                  <a:close/>
                </a:path>
                <a:path fill="none" w="1785937" h="1387475">
                  <a:moveTo>
                    <a:pt x="549881" y="53247"/>
                  </a:moveTo>
                  <a:cubicBezTo>
                    <a:pt x="750274" y="-11541"/>
                    <a:pt x="974180" y="-17407"/>
                    <a:pt x="1179736" y="36746"/>
                  </a:cubicBezTo>
                  <a:cubicBezTo>
                    <a:pt x="1443452" y="106220"/>
                    <a:pt x="1650354" y="267294"/>
                    <a:pt x="1739232" y="47231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93"/>
            <p:cNvSpPr/>
            <p:nvPr/>
          </p:nvSpPr>
          <p:spPr>
            <a:xfrm>
              <a:off x="2428920" y="6000840"/>
              <a:ext cx="1500120" cy="14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aight Connector 96"/>
            <p:cNvSpPr/>
            <p:nvPr/>
          </p:nvSpPr>
          <p:spPr>
            <a:xfrm flipH="1">
              <a:off x="3713040" y="5788080"/>
              <a:ext cx="1440" cy="57132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Straight Connector 97"/>
            <p:cNvSpPr/>
            <p:nvPr/>
          </p:nvSpPr>
          <p:spPr>
            <a:xfrm flipH="1">
              <a:off x="3000240" y="5214960"/>
              <a:ext cx="1440" cy="1143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Straight Connector 98"/>
            <p:cNvSpPr/>
            <p:nvPr/>
          </p:nvSpPr>
          <p:spPr>
            <a:xfrm>
              <a:off x="2428920" y="5286240"/>
              <a:ext cx="785520" cy="14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eft Brace 99"/>
            <p:cNvSpPr/>
            <p:nvPr/>
          </p:nvSpPr>
          <p:spPr>
            <a:xfrm>
              <a:off x="2143080" y="5286240"/>
              <a:ext cx="331560" cy="714240"/>
            </a:xfrm>
            <a:custGeom>
              <a:avLst/>
              <a:gdLst>
                <a:gd name="textAreaLeft" fmla="*/ 212040 w 331560"/>
                <a:gd name="textAreaRight" fmla="*/ 331920 w 3315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Object 13"/>
                <p:cNvSpPr txBox="1"/>
                <p:nvPr/>
              </p:nvSpPr>
              <p:spPr>
                <a:xfrm>
                  <a:off x="1738080" y="5465880"/>
                  <a:ext cx="42840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Object 14"/>
                <p:cNvSpPr txBox="1"/>
                <p:nvPr/>
              </p:nvSpPr>
              <p:spPr>
                <a:xfrm>
                  <a:off x="3168720" y="6286680"/>
                  <a:ext cx="37764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Oval 107"/>
            <p:cNvSpPr/>
            <p:nvPr/>
          </p:nvSpPr>
          <p:spPr>
            <a:xfrm flipV="1">
              <a:off x="2928960" y="392832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ight Triangle 108"/>
            <p:cNvSpPr/>
            <p:nvPr/>
          </p:nvSpPr>
          <p:spPr>
            <a:xfrm rot="10800000">
              <a:off x="3214080" y="5214960"/>
              <a:ext cx="642600" cy="785520"/>
            </a:xfrm>
            <a:prstGeom prst="rtTriangle">
              <a:avLst/>
            </a:prstGeom>
            <a:solidFill>
              <a:srgbClr val="c6d9f1"/>
            </a:solidFill>
            <a:ln w="2556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traight Connector 109"/>
            <p:cNvSpPr/>
            <p:nvPr/>
          </p:nvSpPr>
          <p:spPr>
            <a:xfrm>
              <a:off x="2999520" y="5000760"/>
              <a:ext cx="928440" cy="1143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10"/>
            <p:cNvSpPr/>
            <p:nvPr/>
          </p:nvSpPr>
          <p:spPr>
            <a:xfrm flipV="1">
              <a:off x="3500280" y="557136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2" name="Straight Arrow Connector 67"/>
            <p:cNvCxnSpPr>
              <a:endCxn id="230" idx="2"/>
            </p:cNvCxnSpPr>
            <p:nvPr/>
          </p:nvCxnSpPr>
          <p:spPr>
            <a:xfrm flipH="1" flipV="1">
              <a:off x="3585600" y="3869640"/>
              <a:ext cx="57600" cy="487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93" name="Straight Arrow Connector 69"/>
            <p:cNvCxnSpPr/>
            <p:nvPr/>
          </p:nvCxnSpPr>
          <p:spPr>
            <a:xfrm flipV="1">
              <a:off x="4713840" y="3285360"/>
              <a:ext cx="1080" cy="11451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94" name="Straight Arrow Connector 78"/>
            <p:cNvCxnSpPr/>
            <p:nvPr/>
          </p:nvCxnSpPr>
          <p:spPr>
            <a:xfrm flipH="1" flipV="1">
              <a:off x="5643000" y="2714040"/>
              <a:ext cx="286200" cy="1643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295" name="Straight Arrow Connector 80"/>
            <p:cNvCxnSpPr>
              <a:stCxn id="289" idx="5"/>
              <a:endCxn id="277" idx="1"/>
            </p:cNvCxnSpPr>
            <p:nvPr/>
          </p:nvCxnSpPr>
          <p:spPr>
            <a:xfrm flipV="1">
              <a:off x="3534120" y="5373360"/>
              <a:ext cx="751320" cy="235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0" y="28584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Убрзањ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моћ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пис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е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брз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кторс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брз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енут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т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атк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вал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е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енут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сеч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ед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к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ач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вал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е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643280" y="4572000"/>
                <a:ext cx="450072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9"/>
              <p:cNvSpPr txBox="1"/>
              <p:nvPr/>
            </p:nvSpPr>
            <p:spPr>
              <a:xfrm>
                <a:off x="0" y="4500720"/>
                <a:ext cx="3857760" cy="16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9"/>
          <p:cNvSpPr/>
          <p:nvPr/>
        </p:nvSpPr>
        <p:spPr>
          <a:xfrm>
            <a:off x="428760" y="7128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ко , униформно праволинијско крета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357120" y="785880"/>
                <a:ext cx="8140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1" name="TextBox 14"/>
          <p:cNvSpPr/>
          <p:nvPr/>
        </p:nvSpPr>
        <p:spPr>
          <a:xfrm>
            <a:off x="428760" y="314316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ко, равномерно убрзано крета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0" y="0"/>
            <a:ext cx="16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0" y="3214800"/>
            <a:ext cx="8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1"/>
              <p:cNvSpPr txBox="1"/>
              <p:nvPr/>
            </p:nvSpPr>
            <p:spPr>
              <a:xfrm>
                <a:off x="357120" y="3881520"/>
                <a:ext cx="3286080" cy="25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2"/>
              <p:cNvSpPr txBox="1"/>
              <p:nvPr/>
            </p:nvSpPr>
            <p:spPr>
              <a:xfrm>
                <a:off x="4098960" y="4629240"/>
                <a:ext cx="1447920" cy="17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f>
                      <m:num>
                        <m:limUpp>
                          <m:e>
                            <m:r>
                              <m:t xml:space="preserve">v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6224760" y="4613400"/>
                <a:ext cx="235404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v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Rectangle 15"/>
          <p:cNvSpPr/>
          <p:nvPr/>
        </p:nvSpPr>
        <p:spPr>
          <a:xfrm>
            <a:off x="5573160" y="392904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брза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9"/>
          <p:cNvSpPr/>
          <p:nvPr/>
        </p:nvSpPr>
        <p:spPr>
          <a:xfrm>
            <a:off x="428760" y="1928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ниформ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олинијс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т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3"/>
              <p:cNvSpPr txBox="1"/>
              <p:nvPr/>
            </p:nvSpPr>
            <p:spPr>
              <a:xfrm>
                <a:off x="214200" y="2160720"/>
                <a:ext cx="68979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TextBox 14"/>
          <p:cNvSpPr/>
          <p:nvPr/>
        </p:nvSpPr>
        <p:spPr>
          <a:xfrm>
            <a:off x="428760" y="3857760"/>
            <a:ext cx="36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вномер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брз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т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бо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=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брз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емљ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= 9,81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14"/>
              <p:cNvSpPr txBox="1"/>
              <p:nvPr/>
            </p:nvSpPr>
            <p:spPr>
              <a:xfrm>
                <a:off x="4286160" y="3525840"/>
                <a:ext cx="4500720" cy="33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sSup>
                                  <m:e/>
                                  <m:sup/>
                                </m:sSup>
                              </m:sub>
                            </m:sSub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ko</m:t>
                        </m:r>
                        <m:sSup>
                          <m:e/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sSup>
                          <m:e/>
                          <m:sup/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2" name="Rectangle 16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брз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јал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кт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е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м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ијал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луч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аволинијск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брз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ава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ут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е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0" y="1714680"/>
            <a:ext cx="9144000" cy="1714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0" y="1857240"/>
            <a:ext cx="16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2520" y="385776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 тела која се крећу могу да делују друга тела и да доведу до промене облика кретањ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која карактерише меру узајамног дејства два тела зове се сил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 покретна тела могу да делују силе константног интензитета, а такође и силе чији се интензитети и правци мењају током времен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251280" y="446040"/>
            <a:ext cx="773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Основни елементи динам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КОНИ КРЕТАЊА ПОД ДЕЈСТВОМ С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179280" y="714240"/>
            <a:ext cx="871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Прв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Њутно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нерциј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а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ров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ниформ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волинијск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љ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нуђ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о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ров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м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пушт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б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о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4"/>
              <p:cNvSpPr txBox="1"/>
              <p:nvPr/>
            </p:nvSpPr>
            <p:spPr>
              <a:xfrm>
                <a:off x="0" y="4143240"/>
                <a:ext cx="277956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1" name="TextBox 5"/>
          <p:cNvSpPr/>
          <p:nvPr/>
        </p:nvSpPr>
        <p:spPr>
          <a:xfrm>
            <a:off x="3143160" y="3429000"/>
            <a:ext cx="600084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еднос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ће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ировањ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=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хватањ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и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хани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лич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т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л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как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љаш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320" y="578628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оличин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ретањ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2646720" y="0"/>
            <a:ext cx="352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Њутнов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зак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Друг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Њутно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оличи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ретањ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ич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порцион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јств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вц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3"/>
              <p:cNvSpPr txBox="1"/>
              <p:nvPr/>
            </p:nvSpPr>
            <p:spPr>
              <a:xfrm>
                <a:off x="285840" y="1285920"/>
                <a:ext cx="3714840" cy="385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6" name="TextBox 6"/>
          <p:cNvSpPr/>
          <p:nvPr/>
        </p:nvSpPr>
        <p:spPr>
          <a:xfrm>
            <a:off x="4286160" y="2286000"/>
            <a:ext cx="485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а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брз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=const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=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ин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Њут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5110200"/>
            <a:ext cx="9144000" cy="17478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8"/>
          <p:cNvSpPr/>
          <p:nvPr/>
        </p:nvSpPr>
        <p:spPr>
          <a:xfrm>
            <a:off x="4500720" y="428616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Newton = 1N = 1kg.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кони крет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 се крећу, мењају под дејством с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 је вектор који има величину-интензитет, правац и см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оји више типова с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витацио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-електрич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стезања, ширења/сабија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ења,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еластичности, ит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179280" y="3022560"/>
                <a:ext cx="37148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1" name="Rectangle 3"/>
          <p:cNvSpPr/>
          <p:nvPr/>
        </p:nvSpPr>
        <p:spPr>
          <a:xfrm>
            <a:off x="4643280" y="3286080"/>
            <a:ext cx="4249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Слободн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па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a=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Убрзањ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Земљи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= 9,81 m/s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9"/>
          <p:cNvSpPr/>
          <p:nvPr/>
        </p:nvSpPr>
        <p:spPr>
          <a:xfrm>
            <a:off x="0" y="0"/>
            <a:ext cx="914400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Masa i tež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as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 = osobina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Težina= gravitaciona sila koja deluje na telo mase m ,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=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468360" y="19288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iste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Mas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težina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ilogram (kg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jut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N) 1N = 1 kg.m/s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2778120"/>
          <a:ext cx="5143680" cy="4079880"/>
        </p:xfrm>
        <a:graphic>
          <a:graphicData uri="http://schemas.openxmlformats.org/drawingml/2006/table">
            <a:tbl>
              <a:tblPr/>
              <a:tblGrid>
                <a:gridCol w="3571920"/>
                <a:gridCol w="1571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sa 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a galaks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x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0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ml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ove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stica praš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kul penici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ktr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3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35" name="Rectangle 1"/>
          <p:cNvSpPr/>
          <p:nvPr/>
        </p:nvSpPr>
        <p:spPr>
          <a:xfrm>
            <a:off x="1751040" y="4653000"/>
            <a:ext cx="6737400" cy="2205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3" descr="300px-Periodic_table.svg.png"/>
          <p:cNvPicPr/>
          <p:nvPr/>
        </p:nvPicPr>
        <p:blipFill>
          <a:blip r:embed="rId1"/>
          <a:stretch/>
        </p:blipFill>
        <p:spPr>
          <a:xfrm>
            <a:off x="3286080" y="3822840"/>
            <a:ext cx="5388120" cy="3035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"/>
          <p:cNvPicPr/>
          <p:nvPr/>
        </p:nvPicPr>
        <p:blipFill>
          <a:blip r:embed="rId2"/>
          <a:stretch/>
        </p:blipFill>
        <p:spPr>
          <a:xfrm>
            <a:off x="0" y="4075200"/>
            <a:ext cx="2857680" cy="2782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9360" y="0"/>
            <a:ext cx="91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Зашто нам треба физи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чка хемиј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112680" y="649440"/>
            <a:ext cx="8928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чка хемија обухвата две науке - физику и хем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ка проучава материју – грађу, својства и кретање. Поред тога, проучава законитости по којима се дешавају појаве у природи. Физика проучава начине на који материја интерагује једна са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Хемија проучава супстанцу – грађу, особине, промене и законитости по којима се промене супстанце дешава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чка хемија је настала као тежња научника да се мноштво информација о хемијским једињењима и реакцијама обједине и да се успоставе законитости које их повезу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3"/>
          <p:cNvSpPr/>
          <p:nvPr/>
        </p:nvSpPr>
        <p:spPr>
          <a:xfrm>
            <a:off x="428760" y="333360"/>
            <a:ext cx="8001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Трећ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Њутно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акциј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реакциј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ензите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вц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рот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е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рот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рот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ер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ензите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857160" y="4643280"/>
                <a:ext cx="2571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8" name="Oval 6"/>
          <p:cNvSpPr/>
          <p:nvPr/>
        </p:nvSpPr>
        <p:spPr>
          <a:xfrm>
            <a:off x="4857840" y="4500720"/>
            <a:ext cx="842760" cy="842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7"/>
          <p:cNvSpPr/>
          <p:nvPr/>
        </p:nvSpPr>
        <p:spPr>
          <a:xfrm>
            <a:off x="6929280" y="4143240"/>
            <a:ext cx="1285920" cy="1343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Straight Arrow Connector 15"/>
          <p:cNvCxnSpPr/>
          <p:nvPr/>
        </p:nvCxnSpPr>
        <p:spPr>
          <a:xfrm>
            <a:off x="5214960" y="4928760"/>
            <a:ext cx="71496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1" name="Straight Arrow Connector 23"/>
          <p:cNvCxnSpPr/>
          <p:nvPr/>
        </p:nvCxnSpPr>
        <p:spPr>
          <a:xfrm flipH="1">
            <a:off x="6786360" y="4856760"/>
            <a:ext cx="776880" cy="118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5715000" y="4429080"/>
                <a:ext cx="357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6572160" y="4357800"/>
                <a:ext cx="357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3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Дејств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ил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овршин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РИТИСА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љаш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нутраш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ми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љ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рмал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ши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вномер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споређ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ши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ч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ш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з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тис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arallelogram 5"/>
          <p:cNvSpPr/>
          <p:nvPr/>
        </p:nvSpPr>
        <p:spPr>
          <a:xfrm>
            <a:off x="5357880" y="2786040"/>
            <a:ext cx="2857320" cy="1428840"/>
          </a:xfrm>
          <a:prstGeom prst="parallelogram">
            <a:avLst>
              <a:gd name="adj" fmla="val 2499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Straight Arrow Connector 11"/>
          <p:cNvCxnSpPr/>
          <p:nvPr/>
        </p:nvCxnSpPr>
        <p:spPr>
          <a:xfrm flipH="1">
            <a:off x="6786360" y="2142720"/>
            <a:ext cx="2160" cy="14295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7" name="Rectangle 13"/>
          <p:cNvSpPr/>
          <p:nvPr/>
        </p:nvSpPr>
        <p:spPr>
          <a:xfrm>
            <a:off x="5646240" y="3571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179280" y="3878280"/>
                <a:ext cx="3643560" cy="32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eqAr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/>
                            </m:f>
                          </m:e>
                        </m:eqArr>
                      </m:e>
                    </m:eqAr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eqAr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/>
                        </m:f>
                      </m:e>
                    </m:eqAr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349" name="Parallelogram 15"/>
          <p:cNvSpPr/>
          <p:nvPr/>
        </p:nvSpPr>
        <p:spPr>
          <a:xfrm>
            <a:off x="5500800" y="5357880"/>
            <a:ext cx="2857320" cy="1428840"/>
          </a:xfrm>
          <a:prstGeom prst="parallelogram">
            <a:avLst>
              <a:gd name="adj" fmla="val 2499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Straight Arrow Connector 18"/>
          <p:cNvCxnSpPr/>
          <p:nvPr/>
        </p:nvCxnSpPr>
        <p:spPr>
          <a:xfrm flipH="1">
            <a:off x="6928560" y="4714560"/>
            <a:ext cx="2520" cy="14295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1" name="Rectangle 20"/>
          <p:cNvSpPr/>
          <p:nvPr/>
        </p:nvSpPr>
        <p:spPr>
          <a:xfrm>
            <a:off x="5788800" y="6143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Straight Arrow Connector 21"/>
          <p:cNvCxnSpPr/>
          <p:nvPr/>
        </p:nvCxnSpPr>
        <p:spPr>
          <a:xfrm flipH="1">
            <a:off x="6928560" y="4857840"/>
            <a:ext cx="1143720" cy="1286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3" name="Rectangle 24"/>
          <p:cNvSpPr/>
          <p:nvPr/>
        </p:nvSpPr>
        <p:spPr>
          <a:xfrm>
            <a:off x="6861600" y="2071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5"/>
          <p:cNvSpPr/>
          <p:nvPr/>
        </p:nvSpPr>
        <p:spPr>
          <a:xfrm>
            <a:off x="8147520" y="4643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6"/>
          <p:cNvSpPr/>
          <p:nvPr/>
        </p:nvSpPr>
        <p:spPr>
          <a:xfrm>
            <a:off x="6370200" y="457200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7"/>
          <p:cNvSpPr/>
          <p:nvPr/>
        </p:nvSpPr>
        <p:spPr>
          <a:xfrm>
            <a:off x="7146720" y="485784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8"/>
          <p:cNvSpPr/>
          <p:nvPr/>
        </p:nvSpPr>
        <p:spPr>
          <a:xfrm>
            <a:off x="2143080" y="4059360"/>
            <a:ext cx="27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иница за прити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"/>
              <p:cNvSpPr txBox="1"/>
              <p:nvPr/>
            </p:nvSpPr>
            <p:spPr>
              <a:xfrm>
                <a:off x="3517920" y="2657520"/>
                <a:ext cx="1676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1"/>
          <p:cNvSpPr/>
          <p:nvPr/>
        </p:nvSpPr>
        <p:spPr>
          <a:xfrm>
            <a:off x="0" y="5716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РА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авлађивањ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тпо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уж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емештањ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ру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ханич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ч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волинијск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у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у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3143160" y="2428920"/>
                <a:ext cx="2457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TextBox 4"/>
          <p:cNvSpPr/>
          <p:nvPr/>
        </p:nvSpPr>
        <p:spPr>
          <a:xfrm>
            <a:off x="0" y="3143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луч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л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ц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мер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клап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г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рачун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ла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104760" y="4641840"/>
                <a:ext cx="3135240" cy="21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3" name="Rectangle 6"/>
          <p:cNvSpPr/>
          <p:nvPr/>
        </p:nvSpPr>
        <p:spPr>
          <a:xfrm>
            <a:off x="4572000" y="6357960"/>
            <a:ext cx="457200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5500800" y="5786280"/>
            <a:ext cx="18572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6429240" y="4857840"/>
            <a:ext cx="157176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Straight Arrow Connector 10"/>
          <p:cNvCxnSpPr/>
          <p:nvPr/>
        </p:nvCxnSpPr>
        <p:spPr>
          <a:xfrm flipV="1">
            <a:off x="6428160" y="4857480"/>
            <a:ext cx="1080" cy="1216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7" name="Straight Arrow Connector 12"/>
          <p:cNvCxnSpPr/>
          <p:nvPr/>
        </p:nvCxnSpPr>
        <p:spPr>
          <a:xfrm flipV="1">
            <a:off x="6429240" y="4857120"/>
            <a:ext cx="1572480" cy="1215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8" name="Straight Arrow Connector 14"/>
          <p:cNvCxnSpPr/>
          <p:nvPr/>
        </p:nvCxnSpPr>
        <p:spPr>
          <a:xfrm>
            <a:off x="6429240" y="6071760"/>
            <a:ext cx="15724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5907240" y="5087880"/>
                <a:ext cx="3999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9"/>
              <p:cNvSpPr txBox="1"/>
              <p:nvPr/>
            </p:nvSpPr>
            <p:spPr>
              <a:xfrm>
                <a:off x="8072280" y="5357880"/>
                <a:ext cx="451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10"/>
              <p:cNvSpPr txBox="1"/>
              <p:nvPr/>
            </p:nvSpPr>
            <p:spPr>
              <a:xfrm>
                <a:off x="8001000" y="4286160"/>
                <a:ext cx="4287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1"/>
              <p:cNvSpPr txBox="1"/>
              <p:nvPr/>
            </p:nvSpPr>
            <p:spPr>
              <a:xfrm>
                <a:off x="5929200" y="5715000"/>
                <a:ext cx="5414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3" name="TextBox 27"/>
          <p:cNvSpPr/>
          <p:nvPr/>
        </p:nvSpPr>
        <p:spPr>
          <a:xfrm>
            <a:off x="2647800" y="4125960"/>
            <a:ext cx="348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иница за ра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Joul = 1J= 1N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x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rc 28"/>
          <p:cNvSpPr/>
          <p:nvPr/>
        </p:nvSpPr>
        <p:spPr>
          <a:xfrm>
            <a:off x="7286760" y="5286240"/>
            <a:ext cx="357120" cy="1571760"/>
          </a:xfrm>
          <a:custGeom>
            <a:avLst/>
            <a:gdLst/>
            <a:ahLst/>
            <a:rect l="l" t="t" r="r" b="b"/>
            <a:pathLst>
              <a:path stroke="0" w="357188" h="1571625">
                <a:moveTo>
                  <a:pt x="178594" y="0"/>
                </a:moveTo>
                <a:cubicBezTo>
                  <a:pt x="277229" y="0"/>
                  <a:pt x="357188" y="351820"/>
                  <a:pt x="357188" y="785813"/>
                </a:cubicBezTo>
                <a:lnTo>
                  <a:pt x="178594" y="785813"/>
                </a:lnTo>
                <a:lnTo>
                  <a:pt x="178594" y="0"/>
                </a:lnTo>
                <a:close/>
              </a:path>
              <a:path fill="none" w="357188" h="1571625">
                <a:moveTo>
                  <a:pt x="178594" y="0"/>
                </a:moveTo>
                <a:cubicBezTo>
                  <a:pt x="277229" y="0"/>
                  <a:pt x="357188" y="351820"/>
                  <a:pt x="357188" y="785813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9"/>
          <p:cNvSpPr/>
          <p:nvPr/>
        </p:nvSpPr>
        <p:spPr>
          <a:xfrm>
            <a:off x="7289280" y="54291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3638160" y="0"/>
            <a:ext cx="10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1"/>
          <p:cNvSpPr/>
          <p:nvPr/>
        </p:nvSpPr>
        <p:spPr>
          <a:xfrm>
            <a:off x="144360" y="54936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опште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лучај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кој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делуј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мож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мењ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величи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равц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мењ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ам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величи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задржав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ист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рава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тад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ћ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изврше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ра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бит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једна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2"/>
              <p:cNvSpPr txBox="1"/>
              <p:nvPr/>
            </p:nvSpPr>
            <p:spPr>
              <a:xfrm>
                <a:off x="1692360" y="4824360"/>
                <a:ext cx="270972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rPr>
                        <m:lit/>
                        <m:nor/>
                      </m:rPr>
                      <m:t xml:space="preserve">Fd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1"/>
          <p:cNvGrpSpPr/>
          <p:nvPr/>
        </p:nvGrpSpPr>
        <p:grpSpPr>
          <a:xfrm>
            <a:off x="5534640" y="3916440"/>
            <a:ext cx="3022200" cy="2511360"/>
            <a:chOff x="5534640" y="3916440"/>
            <a:chExt cx="3022200" cy="2511360"/>
          </a:xfrm>
        </p:grpSpPr>
        <p:cxnSp>
          <p:nvCxnSpPr>
            <p:cNvPr id="380" name="Straight Arrow Connector 2"/>
            <p:cNvCxnSpPr/>
            <p:nvPr/>
          </p:nvCxnSpPr>
          <p:spPr>
            <a:xfrm flipV="1">
              <a:off x="5960880" y="4060080"/>
              <a:ext cx="2160" cy="18579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1" name="Straight Arrow Connector 3"/>
            <p:cNvCxnSpPr/>
            <p:nvPr/>
          </p:nvCxnSpPr>
          <p:spPr>
            <a:xfrm>
              <a:off x="5960880" y="5916600"/>
              <a:ext cx="257256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82" name="Freeform 4"/>
            <p:cNvSpPr/>
            <p:nvPr/>
          </p:nvSpPr>
          <p:spPr>
            <a:xfrm>
              <a:off x="6103800" y="4273560"/>
              <a:ext cx="2030400" cy="1482480"/>
            </a:xfrm>
            <a:custGeom>
              <a:avLst/>
              <a:gdLst/>
              <a:ahLst/>
              <a:rect l="l" t="t" r="r" b="b"/>
              <a:pathLst>
                <a:path w="1324303" h="1481959">
                  <a:moveTo>
                    <a:pt x="0" y="0"/>
                  </a:moveTo>
                  <a:cubicBezTo>
                    <a:pt x="156341" y="6569"/>
                    <a:pt x="312682" y="13138"/>
                    <a:pt x="472965" y="220717"/>
                  </a:cubicBezTo>
                  <a:cubicBezTo>
                    <a:pt x="633248" y="428296"/>
                    <a:pt x="819806" y="1035269"/>
                    <a:pt x="961696" y="1245476"/>
                  </a:cubicBezTo>
                  <a:cubicBezTo>
                    <a:pt x="1103586" y="1455683"/>
                    <a:pt x="1213944" y="1468821"/>
                    <a:pt x="1324303" y="1481959"/>
                  </a:cubicBezTo>
                </a:path>
              </a:pathLst>
            </a:custGeom>
            <a:noFill/>
            <a:ln w="381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3" name="Straight Arrow Connector 5"/>
            <p:cNvCxnSpPr/>
            <p:nvPr/>
          </p:nvCxnSpPr>
          <p:spPr>
            <a:xfrm flipV="1">
              <a:off x="6175080" y="4201560"/>
              <a:ext cx="1215000" cy="72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4" name="Straight Arrow Connector 6"/>
            <p:cNvCxnSpPr/>
            <p:nvPr/>
          </p:nvCxnSpPr>
          <p:spPr>
            <a:xfrm>
              <a:off x="6103440" y="4273560"/>
              <a:ext cx="1215000" cy="1432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85" name="TextBox 7"/>
            <p:cNvSpPr/>
            <p:nvPr/>
          </p:nvSpPr>
          <p:spPr>
            <a:xfrm>
              <a:off x="7463520" y="3916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8"/>
            <p:cNvSpPr/>
            <p:nvPr/>
          </p:nvSpPr>
          <p:spPr>
            <a:xfrm>
              <a:off x="7391880" y="4273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9"/>
            <p:cNvSpPr/>
            <p:nvPr/>
          </p:nvSpPr>
          <p:spPr>
            <a:xfrm>
              <a:off x="5534640" y="3987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Straight Connector 10"/>
            <p:cNvSpPr/>
            <p:nvPr/>
          </p:nvSpPr>
          <p:spPr>
            <a:xfrm>
              <a:off x="6103800" y="4273560"/>
              <a:ext cx="1440" cy="1643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traight Connector 11"/>
            <p:cNvSpPr/>
            <p:nvPr/>
          </p:nvSpPr>
          <p:spPr>
            <a:xfrm>
              <a:off x="7389720" y="5273640"/>
              <a:ext cx="1440" cy="64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Box 12"/>
            <p:cNvSpPr/>
            <p:nvPr/>
          </p:nvSpPr>
          <p:spPr>
            <a:xfrm>
              <a:off x="6035040" y="3916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13"/>
            <p:cNvSpPr/>
            <p:nvPr/>
          </p:nvSpPr>
          <p:spPr>
            <a:xfrm>
              <a:off x="7392240" y="484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9"/>
            <p:cNvSpPr/>
            <p:nvPr/>
          </p:nvSpPr>
          <p:spPr>
            <a:xfrm>
              <a:off x="8249760" y="60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Straight Arrow Connector 18"/>
            <p:cNvCxnSpPr>
              <a:endCxn id="391" idx="1"/>
            </p:cNvCxnSpPr>
            <p:nvPr/>
          </p:nvCxnSpPr>
          <p:spPr>
            <a:xfrm>
              <a:off x="6961320" y="4630320"/>
              <a:ext cx="429120" cy="4006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94" name="Straight Arrow Connector 20"/>
            <p:cNvCxnSpPr/>
            <p:nvPr/>
          </p:nvCxnSpPr>
          <p:spPr>
            <a:xfrm>
              <a:off x="7389720" y="5273280"/>
              <a:ext cx="357840" cy="21492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2"/>
          <p:cNvSpPr/>
          <p:nvPr/>
        </p:nvSpPr>
        <p:spPr>
          <a:xfrm>
            <a:off x="500040" y="2643120"/>
            <a:ext cx="83581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р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уб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ше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а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р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егов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ерг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оли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д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рше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тв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33120" y="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ЈЕ СПОСОБНОСТ ВРШЕЊА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3429000" y="914400"/>
            <a:ext cx="1371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=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5955840" y="9144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293480" y="91440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Д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eft Arrow 7"/>
          <p:cNvSpPr/>
          <p:nvPr/>
        </p:nvSpPr>
        <p:spPr>
          <a:xfrm>
            <a:off x="2362320" y="838080"/>
            <a:ext cx="609480" cy="762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eft Arrow 8"/>
          <p:cNvSpPr/>
          <p:nvPr/>
        </p:nvSpPr>
        <p:spPr>
          <a:xfrm rot="10800000">
            <a:off x="5105160" y="837720"/>
            <a:ext cx="609480" cy="762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2057400" y="1752480"/>
            <a:ext cx="472428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SI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јединица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за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енергиј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6635520" y="1752480"/>
            <a:ext cx="24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Joule = 1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0" y="621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ханич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плот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миј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9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УКУПНА ЕНЕРГИЈ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 једнака збиру кинет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чке и потенцијалне енергиј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264960" y="2133720"/>
            <a:ext cx="853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КИНЕТИЧКА ЕНЕРИЈ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: енергија кре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а енергија се мери радом који изврши сила да уочено тело из стања мировања убрза, да на пређеном путу достигне брзину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v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239760" y="4508640"/>
            <a:ext cx="87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ПОТЕНЦИЈАНА ЕНЕРГИЈ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: енергија положа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 енергија се мери радом који изврши сила да би уочено тело преместила из једне у другу тачку поља.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5"/>
          <p:cNvSpPr/>
          <p:nvPr/>
        </p:nvSpPr>
        <p:spPr>
          <a:xfrm>
            <a:off x="2857680" y="1341360"/>
            <a:ext cx="2286000" cy="64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+ Е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4"/>
          <p:cNvSpPr/>
          <p:nvPr/>
        </p:nvSpPr>
        <p:spPr>
          <a:xfrm>
            <a:off x="0" y="260280"/>
            <a:ext cx="914400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Кинетичк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енергиј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деалн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латк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рши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поче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брзањ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бити енергију кретањ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5"/>
              <p:cNvSpPr txBox="1"/>
              <p:nvPr/>
            </p:nvSpPr>
            <p:spPr>
              <a:xfrm>
                <a:off x="158760" y="3213000"/>
                <a:ext cx="898524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4"/>
              <p:cNvSpPr txBox="1"/>
              <p:nvPr/>
            </p:nvSpPr>
            <p:spPr>
              <a:xfrm>
                <a:off x="3276720" y="4551480"/>
                <a:ext cx="22860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2" name="Rectangle 5"/>
          <p:cNvSpPr/>
          <p:nvPr/>
        </p:nvSpPr>
        <p:spPr>
          <a:xfrm>
            <a:off x="177840" y="573264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рнуто, тело које се креће брзином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поседује енергију кретања Е и може да изврши неки рад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7"/>
          <p:cNvSpPr/>
          <p:nvPr/>
        </p:nvSpPr>
        <p:spPr>
          <a:xfrm>
            <a:off x="395280" y="1316160"/>
            <a:ext cx="842472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ејств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ом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во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брзин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станк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еј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ста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асполаж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ек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ел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4"/>
              <p:cNvSpPr txBox="1"/>
              <p:nvPr/>
            </p:nvSpPr>
            <p:spPr>
              <a:xfrm>
                <a:off x="0" y="3789360"/>
                <a:ext cx="91123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2"/>
          <p:cNvSpPr/>
          <p:nvPr/>
        </p:nvSpPr>
        <p:spPr>
          <a:xfrm>
            <a:off x="398880" y="500040"/>
            <a:ext cx="83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Кинетичк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енергија различитих обје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"/>
          <p:cNvSpPr/>
          <p:nvPr/>
        </p:nvSpPr>
        <p:spPr>
          <a:xfrm>
            <a:off x="0" y="5589720"/>
            <a:ext cx="914400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4"/>
          <p:cNvSpPr/>
          <p:nvPr/>
        </p:nvSpPr>
        <p:spPr>
          <a:xfrm flipV="1">
            <a:off x="3379680" y="1415520"/>
            <a:ext cx="301680" cy="3430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5"/>
          <p:cNvSpPr/>
          <p:nvPr/>
        </p:nvSpPr>
        <p:spPr>
          <a:xfrm>
            <a:off x="6059520" y="173052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6278400" y="1928880"/>
            <a:ext cx="378000" cy="2746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7"/>
          <p:cNvSpPr/>
          <p:nvPr/>
        </p:nvSpPr>
        <p:spPr>
          <a:xfrm>
            <a:off x="8507520" y="292752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 flipH="1">
            <a:off x="8002440" y="3032280"/>
            <a:ext cx="571680" cy="62856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"/>
          <p:cNvSpPr/>
          <p:nvPr/>
        </p:nvSpPr>
        <p:spPr>
          <a:xfrm>
            <a:off x="3122640" y="323532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0"/>
          <p:cNvSpPr/>
          <p:nvPr/>
        </p:nvSpPr>
        <p:spPr>
          <a:xfrm flipH="1" flipV="1">
            <a:off x="2739600" y="2955960"/>
            <a:ext cx="376200" cy="272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1"/>
          <p:cNvSpPr/>
          <p:nvPr/>
        </p:nvSpPr>
        <p:spPr>
          <a:xfrm>
            <a:off x="7415280" y="145728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"/>
          <p:cNvSpPr/>
          <p:nvPr/>
        </p:nvSpPr>
        <p:spPr>
          <a:xfrm flipH="1" flipV="1">
            <a:off x="5644800" y="1103040"/>
            <a:ext cx="1763640" cy="34740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3"/>
          <p:cNvSpPr/>
          <p:nvPr/>
        </p:nvSpPr>
        <p:spPr>
          <a:xfrm>
            <a:off x="5721480" y="3132000"/>
            <a:ext cx="212760" cy="193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4"/>
          <p:cNvSpPr/>
          <p:nvPr/>
        </p:nvSpPr>
        <p:spPr>
          <a:xfrm flipV="1">
            <a:off x="5940360" y="2784600"/>
            <a:ext cx="301680" cy="3412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5"/>
          <p:cNvSpPr/>
          <p:nvPr/>
        </p:nvSpPr>
        <p:spPr>
          <a:xfrm>
            <a:off x="4892760" y="292752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6"/>
          <p:cNvSpPr/>
          <p:nvPr/>
        </p:nvSpPr>
        <p:spPr>
          <a:xfrm flipH="1">
            <a:off x="4215960" y="3125880"/>
            <a:ext cx="669960" cy="6919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7"/>
          <p:cNvSpPr/>
          <p:nvPr/>
        </p:nvSpPr>
        <p:spPr>
          <a:xfrm>
            <a:off x="4665600" y="1833480"/>
            <a:ext cx="21420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8"/>
          <p:cNvSpPr/>
          <p:nvPr/>
        </p:nvSpPr>
        <p:spPr>
          <a:xfrm flipH="1">
            <a:off x="4645080" y="1960560"/>
            <a:ext cx="156960" cy="85716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9"/>
          <p:cNvSpPr/>
          <p:nvPr/>
        </p:nvSpPr>
        <p:spPr>
          <a:xfrm>
            <a:off x="6850080" y="2722680"/>
            <a:ext cx="21420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0"/>
          <p:cNvSpPr/>
          <p:nvPr/>
        </p:nvSpPr>
        <p:spPr>
          <a:xfrm>
            <a:off x="7070760" y="2921040"/>
            <a:ext cx="1074600" cy="12542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21"/>
          <p:cNvSpPr/>
          <p:nvPr/>
        </p:nvSpPr>
        <p:spPr>
          <a:xfrm>
            <a:off x="4929120" y="1252440"/>
            <a:ext cx="2145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2"/>
          <p:cNvSpPr/>
          <p:nvPr/>
        </p:nvSpPr>
        <p:spPr>
          <a:xfrm>
            <a:off x="5149800" y="1450800"/>
            <a:ext cx="376200" cy="2732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23"/>
          <p:cNvSpPr/>
          <p:nvPr/>
        </p:nvSpPr>
        <p:spPr>
          <a:xfrm>
            <a:off x="8545680" y="2278080"/>
            <a:ext cx="21240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4"/>
          <p:cNvSpPr/>
          <p:nvPr/>
        </p:nvSpPr>
        <p:spPr>
          <a:xfrm flipV="1">
            <a:off x="8726400" y="2031480"/>
            <a:ext cx="301680" cy="2732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5"/>
          <p:cNvSpPr/>
          <p:nvPr/>
        </p:nvSpPr>
        <p:spPr>
          <a:xfrm flipH="1" flipV="1">
            <a:off x="8726400" y="1758960"/>
            <a:ext cx="301680" cy="272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9"/>
          <p:cNvSpPr/>
          <p:nvPr/>
        </p:nvSpPr>
        <p:spPr>
          <a:xfrm flipH="1" flipV="1">
            <a:off x="2858760" y="1817280"/>
            <a:ext cx="428760" cy="6922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0"/>
          <p:cNvSpPr/>
          <p:nvPr/>
        </p:nvSpPr>
        <p:spPr>
          <a:xfrm>
            <a:off x="8037360" y="153684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1"/>
          <p:cNvSpPr/>
          <p:nvPr/>
        </p:nvSpPr>
        <p:spPr>
          <a:xfrm flipV="1">
            <a:off x="8256600" y="1186920"/>
            <a:ext cx="301680" cy="3430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32"/>
          <p:cNvSpPr/>
          <p:nvPr/>
        </p:nvSpPr>
        <p:spPr>
          <a:xfrm>
            <a:off x="3273480" y="248292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33"/>
          <p:cNvSpPr/>
          <p:nvPr/>
        </p:nvSpPr>
        <p:spPr>
          <a:xfrm>
            <a:off x="3160800" y="176544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33"/>
          <p:cNvSpPr/>
          <p:nvPr/>
        </p:nvSpPr>
        <p:spPr>
          <a:xfrm>
            <a:off x="0" y="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Микр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све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атом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молеку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 гасу имају различите брзине и крећу се у свим могућим правц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3"/>
          <p:cNvSpPr/>
          <p:nvPr/>
        </p:nvSpPr>
        <p:spPr>
          <a:xfrm>
            <a:off x="8931240" y="1960560"/>
            <a:ext cx="212760" cy="193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9"/>
          <p:cNvSpPr/>
          <p:nvPr/>
        </p:nvSpPr>
        <p:spPr>
          <a:xfrm>
            <a:off x="0" y="450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би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њихо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5"/>
              <p:cNvSpPr txBox="1"/>
              <p:nvPr/>
            </p:nvSpPr>
            <p:spPr>
              <a:xfrm>
                <a:off x="0" y="2286000"/>
                <a:ext cx="250020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3"/>
              <p:cNvSpPr txBox="1"/>
              <p:nvPr/>
            </p:nvSpPr>
            <p:spPr>
              <a:xfrm>
                <a:off x="2500200" y="5556240"/>
                <a:ext cx="40165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0" name="TextBox 34"/>
          <p:cNvSpPr/>
          <p:nvPr/>
        </p:nvSpPr>
        <p:spPr>
          <a:xfrm>
            <a:off x="0" y="4000680"/>
            <a:ext cx="93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ака честица има своју брзину и своју кинетичку енерги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642960" y="333360"/>
            <a:ext cx="785808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И с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тем једини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ка стања матери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етањ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з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брзањ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каларне и векторске величин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а енергиј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 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 енергија атома и 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Box 3"/>
          <p:cNvSpPr/>
          <p:nvPr/>
        </p:nvSpPr>
        <p:spPr>
          <a:xfrm>
            <a:off x="0" y="0"/>
            <a:ext cx="92851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ПОТЕНЦИЈАЛН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ЕНЕРГИЈ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г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ећ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лаз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љ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руг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знач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д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врш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оч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мест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руг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ач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љ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ређ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и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к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си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н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емљ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врш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357720" y="5041800"/>
            <a:ext cx="5786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:m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витацио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9.81 m/s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с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795960" y="5214960"/>
            <a:ext cx="1998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= m g 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57240" y="642960"/>
            <a:ext cx="5857920" cy="557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енцијал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инетич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нерг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5105160"/>
            <a:ext cx="4286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Потенцијална</a:t>
            </a:r>
            <a:r>
              <a:rPr b="0" lang="sr-Latn-C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енергија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рова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ож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3143160" y="1214280"/>
            <a:ext cx="2362320" cy="266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7" name="Picture 4" descr=""/>
          <p:cNvPicPr/>
          <p:nvPr/>
        </p:nvPicPr>
        <p:blipFill>
          <a:blip r:embed="rId2"/>
          <a:stretch/>
        </p:blipFill>
        <p:spPr>
          <a:xfrm>
            <a:off x="0" y="1428840"/>
            <a:ext cx="1793880" cy="2539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</p:pic>
      <p:graphicFrame>
        <p:nvGraphicFramePr>
          <p:cNvPr id="458" name="Object 5"/>
          <p:cNvGraphicFramePr/>
          <p:nvPr/>
        </p:nvGraphicFramePr>
        <p:xfrm>
          <a:off x="1928880" y="1500120"/>
          <a:ext cx="127800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9" name="Object 5" descr="">
                    <a:hlinkClick r:id="rId4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28880" y="1500120"/>
                    <a:ext cx="12780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8"/>
          <p:cNvGraphicFramePr/>
          <p:nvPr/>
        </p:nvGraphicFramePr>
        <p:xfrm>
          <a:off x="5500800" y="1571760"/>
          <a:ext cx="1181160" cy="218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Object 8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0800" y="1571760"/>
                    <a:ext cx="11811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0"/>
          <p:cNvGraphicFramePr/>
          <p:nvPr/>
        </p:nvGraphicFramePr>
        <p:xfrm>
          <a:off x="6643800" y="2500200"/>
          <a:ext cx="1662120" cy="223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3" name="Object 10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643800" y="2500200"/>
                    <a:ext cx="16621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Rectangle 11"/>
          <p:cNvSpPr/>
          <p:nvPr/>
        </p:nvSpPr>
        <p:spPr>
          <a:xfrm>
            <a:off x="4214880" y="4929120"/>
            <a:ext cx="49291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Кинетичка</a:t>
            </a:r>
            <a:r>
              <a:rPr b="1" lang="sr-Latn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енергиј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рансл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2"/>
          <p:cNvSpPr/>
          <p:nvPr/>
        </p:nvSpPr>
        <p:spPr>
          <a:xfrm>
            <a:off x="62280" y="0"/>
            <a:ext cx="543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куп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10080" y="4429080"/>
            <a:ext cx="1998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= m g 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1"/>
          <p:cNvSpPr/>
          <p:nvPr/>
        </p:nvSpPr>
        <p:spPr>
          <a:xfrm>
            <a:off x="5792760" y="1857240"/>
            <a:ext cx="154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= m g 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7500960" y="3643200"/>
            <a:ext cx="1643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0"/>
          <p:cNvSpPr/>
          <p:nvPr/>
        </p:nvSpPr>
        <p:spPr>
          <a:xfrm>
            <a:off x="3441600" y="1219320"/>
            <a:ext cx="24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Joule = 1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2690280" y="1857240"/>
            <a:ext cx="449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J = 1 Nm = 1 kg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3026520" y="2643120"/>
            <a:ext cx="3391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½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3228840" y="5715000"/>
            <a:ext cx="28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1 cal = 4.184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567800" y="3429000"/>
            <a:ext cx="6719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икроскопс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акросопс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в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3245040" y="4214880"/>
            <a:ext cx="31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J vs. 1 kJ mo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6"/>
          <p:cNvSpPr/>
          <p:nvPr/>
        </p:nvSpPr>
        <p:spPr>
          <a:xfrm>
            <a:off x="2000160" y="214200"/>
            <a:ext cx="518184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SI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јединице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за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енергиј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24000" y="214200"/>
            <a:ext cx="8496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Унутрашњ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енергиј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соб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к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ш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вис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ихов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ожа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ихов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нутрашњ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об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з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нутраш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нутрашња енергија молекула, зависи од кретања атома унутар молекула и једнака је збиру кинтичке и потенцијалне енергије коју имају атоми унутар молеку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и своју енергију размењују сударајући 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4"/>
          <p:cNvSpPr/>
          <p:nvPr/>
        </p:nvSpPr>
        <p:spPr>
          <a:xfrm>
            <a:off x="642960" y="642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р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лаз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но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иц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185724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"/>
          <p:cNvPicPr/>
          <p:nvPr/>
        </p:nvPicPr>
        <p:blipFill>
          <a:blip r:embed="rId1"/>
          <a:stretch/>
        </p:blipFill>
        <p:spPr>
          <a:xfrm>
            <a:off x="571680" y="2500200"/>
            <a:ext cx="2180880" cy="14004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4" descr=""/>
          <p:cNvPicPr/>
          <p:nvPr/>
        </p:nvPicPr>
        <p:blipFill>
          <a:blip r:embed="rId2"/>
          <a:stretch/>
        </p:blipFill>
        <p:spPr>
          <a:xfrm>
            <a:off x="5786280" y="2214720"/>
            <a:ext cx="2867040" cy="18288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1568880" y="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ренос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уда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-214200" y="3286080"/>
            <a:ext cx="876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ипов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2857680" y="3786120"/>
            <a:ext cx="3214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Еласти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Нееластични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571680" y="5000760"/>
            <a:ext cx="81914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астичн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нутраш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размењује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само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кинетичка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енергија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молеку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еластичн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промена</a:t>
            </a:r>
            <a:r>
              <a:rPr b="0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унутрашње</a:t>
            </a:r>
            <a:r>
              <a:rPr b="0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енергије</a:t>
            </a:r>
            <a:r>
              <a:rPr b="0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молекула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Закон о сачувању енерг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8360" y="270828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нергија не може бити створена нити уништена она може само прећи из једног облика енергије у друг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735804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НЕКИ ОБЛИЦИ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ЕНЕРГИЈЕ: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0" y="928800"/>
            <a:ext cx="30481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3000240" y="642960"/>
            <a:ext cx="6143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 којом се крећу микроскопски и макроскопски објек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 = ½ m v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0" y="2071800"/>
            <a:ext cx="30481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зрачењ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3000240" y="1857240"/>
            <a:ext cx="6143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 фотона (светлости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оларна 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 = h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h 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кова констант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0" y="3214800"/>
            <a:ext cx="30481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3000240" y="3214800"/>
            <a:ext cx="5715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з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је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а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= mgh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h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с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0" y="4786200"/>
            <a:ext cx="30481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Термалн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3071880" y="4500720"/>
            <a:ext cx="6072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 која је повезана са хаотичним кретањима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k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= ½ M v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= 3/2 R T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= m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0" y="5996160"/>
            <a:ext cx="30481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Хемијск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3000240" y="607212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л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емијск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250920" y="189000"/>
            <a:ext cx="8497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нутрашњом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ом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асполаж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цим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меш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бензинс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ар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аздух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утомобил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оде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а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исокој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Хемијс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зво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кумулато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батер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уклеар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акто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Људс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рест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следиц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шт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томс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језгр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том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нутрашњ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"/>
          <p:cNvSpPr/>
          <p:nvPr/>
        </p:nvSpPr>
        <p:spPr>
          <a:xfrm>
            <a:off x="1116000" y="4689360"/>
            <a:ext cx="2879640" cy="505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250920" y="0"/>
            <a:ext cx="871380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Основне јединице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Дужина: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та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m)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се дефинише као растојање које пређе светлост у вакуму у току времена од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/299 792 548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кун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Врем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кун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је време за које се догоди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 192 631 770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ериодичних вибрација које емитује атом цезију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133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томски часовни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Маса: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илогра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kg)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се дефинише као маса специфичног цилиндра легуре платине и иридијума која се чува у Интернационалном бироу за мере и драгоцености у Француској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0" y="0"/>
          <a:ext cx="5500800" cy="6591240"/>
        </p:xfrm>
        <a:graphic>
          <a:graphicData uri="http://schemas.openxmlformats.org/drawingml/2006/table">
            <a:tbl>
              <a:tblPr/>
              <a:tblGrid>
                <a:gridCol w="2357280"/>
                <a:gridCol w="1768680"/>
                <a:gridCol w="1374840"/>
              </a:tblGrid>
              <a:tr h="51840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 ј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ка вел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на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ж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логр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ун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лв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ина супстан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чина струј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чина светл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д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72" descr=""/>
          <p:cNvPicPr/>
          <p:nvPr/>
        </p:nvPicPr>
        <p:blipFill>
          <a:blip r:embed="rId1"/>
          <a:srcRect l="0" t="0" r="8609" b="9998"/>
          <a:stretch/>
        </p:blipFill>
        <p:spPr>
          <a:xfrm>
            <a:off x="5545080" y="0"/>
            <a:ext cx="359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305920" cy="35877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53640" y="632448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Brush Script MT"/>
                <a:ea typeface="Arial"/>
              </a:rPr>
              <a:t>подсе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1714680" y="1285920"/>
            <a:ext cx="4572000" cy="39290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282240" y="5572080"/>
            <a:ext cx="85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КОЈЕ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ОБЛАСТИ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ВЕЛИЧИНА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ОБУХВАТА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ФАРМАЦИЈА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0"/>
            <a:ext cx="88581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ко су велики молекули лек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иниц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нгстрем и намомета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A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nm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 = 10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ђумолекулска растојања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C-H ~ 1A, C-C ~1.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ли молекули леков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A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7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екови из природних произво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A - 1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јаметар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DNA :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20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теински леков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тите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ска мес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A to 100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иолошке мембране  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0A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100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HIV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рус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~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000A = 100nM ( 0.1 μ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i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он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,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 = 10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актерија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 1-10 μm 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видљива под микроскоп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црвена крвна зрна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≡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уклеус типичне еукараиотске ћели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6-8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0"/>
            <a:ext cx="914400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ОСНОВНИ ЕЛЕМЕНТИ КИНЕМАТИКЕ : БР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општ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рактерист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тер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л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прекид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тер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одвојив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ханич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м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ђусоб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ожа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то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еме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изичка величина која описује кретање је брз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јекат кретања је све што мења свој положај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 flipV="1">
            <a:off x="3495600" y="4532400"/>
            <a:ext cx="301680" cy="3427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6175440" y="484668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6394320" y="5045040"/>
            <a:ext cx="378000" cy="2746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8623440" y="604368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8315280" y="6242040"/>
            <a:ext cx="301680" cy="3430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3238560" y="635148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 flipH="1" flipV="1">
            <a:off x="2855520" y="6071760"/>
            <a:ext cx="376200" cy="2732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7531200" y="457344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 flipV="1">
            <a:off x="7148160" y="4293720"/>
            <a:ext cx="376200" cy="2732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5837400" y="6248520"/>
            <a:ext cx="212400" cy="193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 flipV="1">
            <a:off x="6056280" y="5900760"/>
            <a:ext cx="301680" cy="3412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5008680" y="604368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4700520" y="6242040"/>
            <a:ext cx="301680" cy="3430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4781520" y="4950000"/>
            <a:ext cx="21420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 flipH="1">
            <a:off x="4474800" y="5148360"/>
            <a:ext cx="299880" cy="3412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6966000" y="5838840"/>
            <a:ext cx="21420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7186680" y="6037200"/>
            <a:ext cx="299880" cy="3412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5045040" y="4368960"/>
            <a:ext cx="21420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5265720" y="4567320"/>
            <a:ext cx="376200" cy="272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3"/>
          <p:cNvSpPr/>
          <p:nvPr/>
        </p:nvSpPr>
        <p:spPr>
          <a:xfrm>
            <a:off x="8661240" y="539424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 flipV="1">
            <a:off x="8842320" y="5148360"/>
            <a:ext cx="301680" cy="2728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 flipH="1" flipV="1">
            <a:off x="8842320" y="4874760"/>
            <a:ext cx="301680" cy="2732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6"/>
          <p:cNvSpPr/>
          <p:nvPr/>
        </p:nvSpPr>
        <p:spPr>
          <a:xfrm>
            <a:off x="6508800" y="6448320"/>
            <a:ext cx="74520" cy="409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7"/>
          <p:cNvSpPr/>
          <p:nvPr/>
        </p:nvSpPr>
        <p:spPr>
          <a:xfrm flipV="1">
            <a:off x="6583320" y="6448320"/>
            <a:ext cx="225360" cy="409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8"/>
          <p:cNvSpPr/>
          <p:nvPr/>
        </p:nvSpPr>
        <p:spPr>
          <a:xfrm flipH="1" flipV="1">
            <a:off x="2666520" y="5284800"/>
            <a:ext cx="752760" cy="4111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9"/>
          <p:cNvSpPr/>
          <p:nvPr/>
        </p:nvSpPr>
        <p:spPr>
          <a:xfrm flipV="1">
            <a:off x="2666880" y="4806720"/>
            <a:ext cx="452520" cy="4777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0"/>
          <p:cNvSpPr/>
          <p:nvPr/>
        </p:nvSpPr>
        <p:spPr>
          <a:xfrm>
            <a:off x="8153280" y="465300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1"/>
          <p:cNvSpPr/>
          <p:nvPr/>
        </p:nvSpPr>
        <p:spPr>
          <a:xfrm flipV="1">
            <a:off x="8372520" y="4303800"/>
            <a:ext cx="301680" cy="3427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2"/>
          <p:cNvSpPr/>
          <p:nvPr/>
        </p:nvSpPr>
        <p:spPr>
          <a:xfrm>
            <a:off x="3389400" y="559908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3"/>
          <p:cNvSpPr/>
          <p:nvPr/>
        </p:nvSpPr>
        <p:spPr>
          <a:xfrm>
            <a:off x="3276720" y="488160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5"/>
          <p:cNvSpPr/>
          <p:nvPr/>
        </p:nvSpPr>
        <p:spPr>
          <a:xfrm>
            <a:off x="4005000" y="5286240"/>
            <a:ext cx="48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кр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то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ле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6"/>
          <p:cNvSpPr/>
          <p:nvPr/>
        </p:nvSpPr>
        <p:spPr>
          <a:xfrm>
            <a:off x="436680" y="47149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Макр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ве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2"/>
          <p:cNvGraphicFramePr/>
          <p:nvPr/>
        </p:nvGraphicFramePr>
        <p:xfrm>
          <a:off x="357120" y="5572080"/>
          <a:ext cx="1643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5572080"/>
                    <a:ext cx="1643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6016680" y="2928960"/>
                <a:ext cx="27241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6072120" y="4451400"/>
                <a:ext cx="275580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Box 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ч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моћ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пис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ва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ханич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ет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СТОЈАЊЕ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 ВРЕМЕ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6"/>
          <p:cNvGrpSpPr/>
          <p:nvPr/>
        </p:nvGrpSpPr>
        <p:grpSpPr>
          <a:xfrm>
            <a:off x="292320" y="2736720"/>
            <a:ext cx="5804640" cy="3269520"/>
            <a:chOff x="292320" y="2736720"/>
            <a:chExt cx="5804640" cy="3269520"/>
          </a:xfrm>
        </p:grpSpPr>
        <p:sp>
          <p:nvSpPr>
            <p:cNvPr id="185" name="Oval 3"/>
            <p:cNvSpPr/>
            <p:nvPr/>
          </p:nvSpPr>
          <p:spPr>
            <a:xfrm>
              <a:off x="1555560" y="4681440"/>
              <a:ext cx="419040" cy="338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6" name="Straight Arrow Connector 6"/>
            <p:cNvCxnSpPr/>
            <p:nvPr/>
          </p:nvCxnSpPr>
          <p:spPr>
            <a:xfrm flipH="1" flipV="1">
              <a:off x="1075320" y="2835720"/>
              <a:ext cx="60840" cy="25426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87" name="Straight Arrow Connector 8"/>
            <p:cNvCxnSpPr/>
            <p:nvPr/>
          </p:nvCxnSpPr>
          <p:spPr>
            <a:xfrm>
              <a:off x="1136160" y="5279760"/>
              <a:ext cx="479340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88" name="Rectangle 18"/>
            <p:cNvSpPr/>
            <p:nvPr/>
          </p:nvSpPr>
          <p:spPr>
            <a:xfrm>
              <a:off x="5373720" y="5286240"/>
              <a:ext cx="72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, 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7"/>
            <p:cNvSpPr/>
            <p:nvPr/>
          </p:nvSpPr>
          <p:spPr>
            <a:xfrm>
              <a:off x="292320" y="27367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2"/>
            <p:cNvSpPr/>
            <p:nvPr/>
          </p:nvSpPr>
          <p:spPr>
            <a:xfrm>
              <a:off x="4610160" y="3484440"/>
              <a:ext cx="420480" cy="339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>
              <a:off x="715680" y="4880160"/>
              <a:ext cx="13190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traight Connector 16"/>
            <p:cNvSpPr/>
            <p:nvPr/>
          </p:nvSpPr>
          <p:spPr>
            <a:xfrm>
              <a:off x="1764360" y="4681440"/>
              <a:ext cx="29880" cy="7970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traight Connector 17"/>
            <p:cNvSpPr/>
            <p:nvPr/>
          </p:nvSpPr>
          <p:spPr>
            <a:xfrm flipH="1">
              <a:off x="4789440" y="3584520"/>
              <a:ext cx="1440" cy="1944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traight Connector 19"/>
            <p:cNvSpPr/>
            <p:nvPr/>
          </p:nvSpPr>
          <p:spPr>
            <a:xfrm>
              <a:off x="715680" y="3633480"/>
              <a:ext cx="425448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8"/>
            <p:cNvSpPr/>
            <p:nvPr/>
          </p:nvSpPr>
          <p:spPr>
            <a:xfrm>
              <a:off x="1363680" y="5286240"/>
              <a:ext cx="34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Latn-CS" sz="3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8"/>
            <p:cNvSpPr/>
            <p:nvPr/>
          </p:nvSpPr>
          <p:spPr>
            <a:xfrm>
              <a:off x="4793040" y="5357520"/>
              <a:ext cx="35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Latn-CS" sz="3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4"/>
            <p:cNvSpPr/>
            <p:nvPr/>
          </p:nvSpPr>
          <p:spPr>
            <a:xfrm>
              <a:off x="423000" y="4730760"/>
              <a:ext cx="40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5"/>
            <p:cNvSpPr/>
            <p:nvPr/>
          </p:nvSpPr>
          <p:spPr>
            <a:xfrm>
              <a:off x="423360" y="3384720"/>
              <a:ext cx="41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1586880" y="4631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4642560" y="3484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1" name="Straight Arrow Connector 30"/>
            <p:cNvCxnSpPr/>
            <p:nvPr/>
          </p:nvCxnSpPr>
          <p:spPr>
            <a:xfrm flipV="1">
              <a:off x="2274480" y="3833280"/>
              <a:ext cx="2037240" cy="797760"/>
            </a:xfrm>
            <a:prstGeom prst="straightConnector1">
              <a:avLst/>
            </a:prstGeom>
            <a:ln w="9360">
              <a:solidFill>
                <a:srgbClr val="4f81bd"/>
              </a:solidFill>
              <a:prstDash val="lgDash"/>
              <a:miter/>
              <a:tailEnd len="med" type="arrow" w="med"/>
            </a:ln>
          </p:spPr>
        </p:cxnSp>
        <p:sp>
          <p:nvSpPr>
            <p:cNvPr id="202" name="Right Brace 33"/>
            <p:cNvSpPr/>
            <p:nvPr/>
          </p:nvSpPr>
          <p:spPr>
            <a:xfrm rot="5400000">
              <a:off x="3043440" y="4080600"/>
              <a:ext cx="498240" cy="2995560"/>
            </a:xfrm>
            <a:custGeom>
              <a:avLst/>
              <a:gdLst>
                <a:gd name="textAreaLeft" fmla="*/ 0 w 498240"/>
                <a:gd name="textAreaRight" fmla="*/ 180000 w 498240"/>
                <a:gd name="textAreaTop" fmla="*/ 15480 h 2995560"/>
                <a:gd name="textAreaBottom" fmla="*/ 2980080 h 299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0"/>
                    <a:pt x="10800" y="360"/>
                  </a:cubicBezTo>
                  <a:lnTo>
                    <a:pt x="10800" y="9979"/>
                  </a:lnTo>
                  <a:cubicBezTo>
                    <a:pt x="10800" y="10159"/>
                    <a:pt x="16200" y="10339"/>
                    <a:pt x="21600" y="10339"/>
                  </a:cubicBezTo>
                  <a:cubicBezTo>
                    <a:pt x="16200" y="10339"/>
                    <a:pt x="10800" y="10519"/>
                    <a:pt x="10800" y="10699"/>
                  </a:cubicBezTo>
                  <a:lnTo>
                    <a:pt x="10800" y="21240"/>
                  </a:lnTo>
                  <a:cubicBezTo>
                    <a:pt x="10800" y="2142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ight Brace 35"/>
            <p:cNvSpPr/>
            <p:nvPr/>
          </p:nvSpPr>
          <p:spPr>
            <a:xfrm rot="10800000">
              <a:off x="596520" y="3633480"/>
              <a:ext cx="598320" cy="1246320"/>
            </a:xfrm>
            <a:custGeom>
              <a:avLst/>
              <a:gdLst>
                <a:gd name="textAreaLeft" fmla="*/ 0 w 598320"/>
                <a:gd name="textAreaRight" fmla="*/ 216000 w 598320"/>
                <a:gd name="textAreaTop" fmla="*/ 12960 h 1246320"/>
                <a:gd name="textAreaBottom" fmla="*/ 1233360 h 12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60"/>
                    <a:pt x="10800" y="719"/>
                  </a:cubicBezTo>
                  <a:lnTo>
                    <a:pt x="10800" y="9620"/>
                  </a:lnTo>
                  <a:cubicBezTo>
                    <a:pt x="10800" y="9980"/>
                    <a:pt x="16200" y="10339"/>
                    <a:pt x="21600" y="10339"/>
                  </a:cubicBezTo>
                  <a:cubicBezTo>
                    <a:pt x="16200" y="10339"/>
                    <a:pt x="10800" y="10699"/>
                    <a:pt x="10800" y="11058"/>
                  </a:cubicBezTo>
                  <a:lnTo>
                    <a:pt x="10800" y="20881"/>
                  </a:lnTo>
                  <a:cubicBezTo>
                    <a:pt x="10800" y="2124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18"/>
          <p:cNvSpPr/>
          <p:nvPr/>
        </p:nvSpPr>
        <p:spPr>
          <a:xfrm>
            <a:off x="3076200" y="56656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3960" y="395136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0" y="1357200"/>
            <a:ext cx="9144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ој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а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ач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тањ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мерај = промена положаја у интервалу вре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четни положа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 почетку у  времен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ачни положа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у времен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285840" y="6226200"/>
                <a:ext cx="19922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" name="Rectangle 21"/>
          <p:cNvSpPr/>
          <p:nvPr/>
        </p:nvSpPr>
        <p:spPr>
          <a:xfrm>
            <a:off x="4143240" y="5869080"/>
            <a:ext cx="4572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вал време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 = t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t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2"/>
          <p:cNvSpPr/>
          <p:nvPr/>
        </p:nvSpPr>
        <p:spPr>
          <a:xfrm>
            <a:off x="13320" y="60008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положа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own Arrow 43"/>
          <p:cNvSpPr/>
          <p:nvPr/>
        </p:nvSpPr>
        <p:spPr>
          <a:xfrm>
            <a:off x="6643800" y="4071960"/>
            <a:ext cx="15714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1"/>
          <p:cNvSpPr/>
          <p:nvPr/>
        </p:nvSpPr>
        <p:spPr>
          <a:xfrm>
            <a:off x="5220720" y="407196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БР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4:55:00Z</dcterms:created>
  <dc:creator>Vera Dondur</dc:creator>
  <dc:description/>
  <dc:language>en-US</dc:language>
  <cp:lastModifiedBy>Snezana Jovanovic</cp:lastModifiedBy>
  <dcterms:modified xsi:type="dcterms:W3CDTF">2023-09-05T06:25:09Z</dcterms:modified>
  <cp:revision>154</cp:revision>
  <dc:subject/>
  <dc:title>Brzina, ubrzanje, sila, rad, energija</dc:title>
</cp:coreProperties>
</file>